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845C-DA32-4DD8-9D1F-537B9474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B4B-3AFA-4A73-B4DB-3B9440DC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0BAA-35FE-4840-A9AD-70ACFE0D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7448-80AA-4944-A637-C9909A79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850-7E51-48B0-B843-5F0EBB23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975-21F5-4392-B03C-362A51A6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D85-6DE1-4012-A10C-E3CB9A16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C88A-1EA5-4EE1-91A8-19998364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AE2-E00F-4FA9-B676-5C175CE3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5DE2-B531-4617-9265-CE8785E1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8262-B5BC-4E4C-BC4E-7F2AA1A9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E635-4524-4DCB-B6FF-62E80067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CAA-963A-4116-8C55-2A69F9DC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6F2D-EBCD-4832-AA72-E18B4D40A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100-8F02-468F-88AD-48101356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04E6-8E97-4B44-B2EA-3CAEAB41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E2B-9C63-40A5-8BC4-AF867571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4CE-3837-486F-9ED6-A2C1966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019-92A9-4FBA-AF12-C78E0A3D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035-1CAF-40B2-8D2E-F10D5A0F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DC0-8764-4B2C-AD4D-4B2EFA61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4CA-ACB4-49AD-A144-67E153C7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539-B751-4561-9B2A-5CEE08A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C14-B177-42DF-8F43-3B62EB3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89F-1B6A-4325-9D1C-DD4DEE0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678-FF25-4550-89C3-FB175CF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A96-6511-4F09-8D97-B8734A0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CFA-679A-409A-8A99-113BD8F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ABA-B0EB-4928-9A33-66560E66B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galleryone.com/images/kouba/kouba%2520-%2520nine%2520big%2520blacks.jpg&amp;imgrefurl=http://www.galleryone.com/kouba_prints.htm&amp;h=403&amp;w=600&amp;sz=24&amp;tbnid=OT33VUEIDK8J:&amp;tbnh=89&amp;tbnw=133&amp;hl=en&amp;start=44&amp;prev=/images%3Fq%3Dnine%26start%3D40%26svnum%3D10%26hl%3Den%26lr%3D%26sa%3DN" TargetMode="External"/><Relationship Id="rId4" Type="http://schemas.openxmlformats.org/officeDocument/2006/relationships/image" Target="../media/image11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ctio.noao.edu/~marcel/personal/OZ1/dscf1970_key.jpg" TargetMode="External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typingmaster.com/general/java/bubbleapplet.asp?keys=0123456789%2F*-%2B&amp;duration=1&amp;Submit=Play+Game" TargetMode="External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pinker.wjh.harvard.edu/photos/santa_barbara_california/images/two%2520hawks.jpg&amp;imgrefurl=http://pinker.wjh.harvard.edu/photos/santa_barbara_california/images/&amp;h=600&amp;w=926&amp;sz=27&amp;tbnid=YUt3rqrUDecJ:&amp;tbnh=94&amp;tbnw=146&amp;hl=en&amp;start=7&amp;prev=/images%3Fq%3Dtwo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artworksmontana.com/pages/Waddellpage/images/Chickadee%2520Three.jpg&amp;imgrefurl=http://www.artworksmontana.com/pages/Waddellpage/images/&amp;h=489&amp;w=500&amp;sz=43&amp;tbnid=rXyU6oaP274J:&amp;tbnh=124&amp;tbnw=127&amp;hl=en&amp;start=6&amp;prev=/images%3Fq%3Dthree%26svnum%3D10%26hl%3Den%26lr%3D" TargetMode="External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bluebirdnut.com/Four%2520eggs%25205-30copy.jpg&amp;imgrefurl=http://www.bluebirdnut.com/2003%2520Season.htm&amp;h=437&amp;w=576&amp;sz=68&amp;tbnid=j12fG15w66cJ:&amp;tbnh=100&amp;tbnw=132&amp;hl=en&amp;start=25&amp;prev=/images%3Fq%3Dfour%26start%3D20%26svnum%3D10%26hl%3Den%26lr%3D%26sa%3DN" TargetMode="External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birdsofsanibel.free.fr/images/20040411/White%2520Pelican%2520Five.jpg&amp;imgrefurl=http://birdsofsanibel.free.fr/new_page_4.htm&amp;h=400&amp;w=600&amp;sz=171&amp;tbnid=e0RfCvFJCroJ:&amp;tbnh=88&amp;tbnw=133&amp;hl=en&amp;start=21&amp;prev=/images%3Fq%3Dfive%26start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lincsbirdclub.co.uk/image_4/barnacles_group_2.jpg&amp;imgrefurl=http://www.lincsbirdclub.co.uk/rare_birds/barnacle_geese.htm&amp;h=336&amp;w=567&amp;sz=39&amp;tbnid=IzQBgOg2Q0YJ:&amp;tbnh=77&amp;tbnw=131&amp;hl=en&amp;start=8&amp;prev=/images%3Fq%3Dsix%2Bbirds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pathla.com.au/img/birds-seven.jpg&amp;imgrefurl=http://www.pathla.com.au/&amp;h=264&amp;w=426&amp;sz=7&amp;tbnid=3L2oFvP7vjMJ:&amp;tbnh=75&amp;tbnw=122&amp;hl=en&amp;start=1&amp;prev=/images%3Fq%3Dseven%2Bbirds%26svnum%3D10%26hl%3Den%26lr%3D" TargetMode="External"/><Relationship Id="rId4" Type="http://schemas.openxmlformats.org/officeDocument/2006/relationships/image" Target="../media/image9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-chick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images.google.com/imgres?imgurl=http://www.ee.surrey.ac.uk/Personal/D.Jefferies/bird/eight-eggs-close-box2-040430.jpg&amp;imgrefurl=http://www.ee.surrey.ac.uk/Personal/D.Jefferies/bird/activity2004.html&amp;h=914&amp;w=1133&amp;sz=166&amp;tbnid=SajA2tqknjEJ:&amp;tbnh=121&amp;tbnw=150&amp;hl=en&amp;start=14&amp;prev=/images%3Fq%3Deight%26svnum%3D10%26hl%3Den%26lr%3D" TargetMode="External"/><Relationship Id="rId4" Type="http://schemas.openxmlformats.org/officeDocument/2006/relationships/image" Target="../media/image10.jpeg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n with Numbe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Kindergarten Mathematics  Web 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"/>
          <p:cNvPicPr/>
          <p:nvPr/>
        </p:nvPicPr>
        <p:blipFill>
          <a:blip r:embed="rId1"/>
          <a:stretch/>
        </p:blipFill>
        <p:spPr>
          <a:xfrm>
            <a:off x="3429000" y="4114800"/>
            <a:ext cx="1905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Picture 11" descr="kouba%2520-%2520nine%2520big%2520bla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646520"/>
            <a:ext cx="1724040" cy="115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Picture 11" descr="dscf1970_ke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267080"/>
            <a:ext cx="2162160" cy="161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30492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m Counting on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1055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2514600" y="14479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57600" y="1523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2895480" y="2590920"/>
            <a:ext cx="6098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2743200" y="4038480"/>
            <a:ext cx="7621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733920" y="41148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ng Your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the numbers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on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each number as you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10" descr="lil%2520numb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886200"/>
            <a:ext cx="1324080" cy="1085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ask</a:t>
            </a: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actice Makes Per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each of the number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he game for each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267080"/>
            <a:ext cx="85716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3048120" y="541008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6477120" y="54864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238880" y="43434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2819520" y="4114800"/>
            <a:ext cx="990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4343400" y="41911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WordArt 12"/>
          <p:cNvSpPr txBox="1"/>
          <p:nvPr/>
        </p:nvSpPr>
        <p:spPr>
          <a:xfrm>
            <a:off x="5867280" y="403848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4724280" y="57150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5720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tion and Conclusion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ing What You Kn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what you have learned, you will now make a number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of your book should have a number from one to 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ge should have a picture that illustrates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share your books with the class and with your family on family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jumping chick"/>
          <p:cNvPicPr/>
          <p:nvPr/>
        </p:nvPicPr>
        <p:blipFill>
          <a:blip r:embed="rId1"/>
          <a:stretch/>
        </p:blipFill>
        <p:spPr>
          <a:xfrm>
            <a:off x="533520" y="41911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80880" y="457200"/>
            <a:ext cx="16002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1" descr="VGKILAJHUIAJDGX"/>
          <p:cNvPicPr/>
          <p:nvPr/>
        </p:nvPicPr>
        <p:blipFill>
          <a:blip r:embed="rId3"/>
          <a:stretch/>
        </p:blipFill>
        <p:spPr>
          <a:xfrm>
            <a:off x="4724280" y="4572000"/>
            <a:ext cx="2438640" cy="1406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8600" y="38088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9" descr="two%2520haw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343400"/>
            <a:ext cx="2152440" cy="1386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12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Picture 11" descr="Chickadee%2520Thre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275000"/>
            <a:ext cx="1514520" cy="1478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11" descr="Four%2520eggs%25205-30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98108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Picture 11" descr="White%2520Pelican%2520Fiv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648320"/>
            <a:ext cx="1876320" cy="124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Picture 13" descr="barnacles_group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389480"/>
            <a:ext cx="2466720" cy="1449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13" descr="birds-sev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319640"/>
            <a:ext cx="2743200" cy="168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19520" y="2819520"/>
            <a:ext cx="4572000" cy="33526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mbers Can B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240" y="1676520"/>
            <a:ext cx="6172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ally look, we can see number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umping chi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4876920"/>
            <a:ext cx="85716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3352680" y="3048120"/>
            <a:ext cx="129564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Picture 11" descr="eight-eggs-close-box2-0404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343400"/>
            <a:ext cx="1885680" cy="1521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380880" y="533520"/>
            <a:ext cx="16002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 action="ppaction://hlinksldjump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7" action="ppaction://hlinksldjump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 action="ppaction://hlinksldjump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9" action="ppaction://hlinksldjump"/>
              </a:rPr>
              <a:t>and Concl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acher’s P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6:00:12Z</dcterms:created>
  <dc:creator>Perri Applegate</dc:creator>
  <dc:description/>
  <dc:language>en-US</dc:language>
  <cp:lastModifiedBy>Lorenz</cp:lastModifiedBy>
  <dcterms:modified xsi:type="dcterms:W3CDTF">2010-01-04T02:55:42Z</dcterms:modified>
  <cp:revision>9</cp:revision>
  <dc:subject/>
  <dc:title>Fun with Numbers A Kindergarten Mathematics  WebQuest</dc:title>
</cp:coreProperties>
</file>